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B55-51BB-4353-B9A1-60E75AD3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D945-DC84-4AB4-9748-E9772328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0A7D-7A86-4E6A-98B2-6F0014E7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388-70FC-4DA6-8ACE-E724E629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43B-8765-41CD-8F35-E94EDFC7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41A-5FFB-4164-B937-20FE5F94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DBF-6A60-4D85-9832-856626DE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040-B8DB-4285-A05B-2FE1D7A6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E5E-E2F8-4532-8237-711ABA52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72B-B4E5-4836-BD46-915DC587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8CA-478A-41DF-9EC0-1DFC931A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E46-58EA-4C43-A666-FAA275B0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6573-B2D9-440B-8F11-C897B9387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05000"/>
            <a:ext cx="8964720" cy="612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Живот има във погле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към Христ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Исус зове: „Ела при Мен!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Земни богатства са суе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съкровище е сам Исус за ме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000" y="981000"/>
            <a:ext cx="601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огледни към Голгота, там живот има в Христа, щастие, мир и весел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 погледа към Голг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349360"/>
            <a:ext cx="90727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2. Внимавам във святи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Му сло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вярвам във обещаният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победата ми е гото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щом гледам на Спас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00"/>
                </a:solidFill>
                <a:latin typeface="Monotype Corsiva"/>
              </a:rPr>
              <a:t>страданият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2000" y="981000"/>
            <a:ext cx="601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огледни към Голгота, там живот има в Христа, щастие, мир и весел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 погледа към Голг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71640" y="-1800"/>
            <a:ext cx="71643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3. Когато поглежда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аз към Христ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тоз мой Спасите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от грех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дава ми сил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да се спа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от страшните прим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800" spc="-1" strike="noStrike">
                <a:solidFill>
                  <a:srgbClr val="000000"/>
                </a:solidFill>
                <a:latin typeface="Monotype Corsiva"/>
              </a:rPr>
              <a:t>на Сатана!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32000" y="981000"/>
            <a:ext cx="601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огледни към Голгота, там живот има в Христа, щастие, мир и весел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 погледа към Голг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0:05:31Z</dcterms:created>
  <dc:creator>TrifonTrifonow</dc:creator>
  <dc:description/>
  <dc:language>en-US</dc:language>
  <cp:lastModifiedBy>TrifonTrifonow</cp:lastModifiedBy>
  <dcterms:modified xsi:type="dcterms:W3CDTF">2005-11-22T09:10:15Z</dcterms:modified>
  <cp:revision>9</cp:revision>
  <dc:subject/>
  <dc:title>Slide 1</dc:title>
</cp:coreProperties>
</file>